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0606-55B1-473D-8296-C977C8EF7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, formula, sunny, draf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student knowledge is forming, we need to be careful to explain those misconceptions on how to use the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F369-1F15-4C0E-BE0D-74F57A20F6D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5C8-7DE8-401B-9C8F-3313B7A0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F81-8475-41A7-AD3C-2CCB394F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ECF-F41E-4F00-8D8B-022524C7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4EB-C0E7-48DD-97A5-AA35E0E7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FFC5-1680-4BB8-8121-EB63B607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62AE-C7D5-447C-9AB3-E2285736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5D37-938C-4ACA-9FB9-0E8A0C5C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4DC9-4365-44B7-B973-C2C1826A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8730-0416-4BDA-9241-7BE06A7E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F9CE-9E89-4725-B7CF-BC0A6E9E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4A88-7D21-4A28-A0BC-B1E952CA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834-B180-44BE-AD83-DC9BCAFC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24D5-EAA3-461A-B72C-B496A760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628A-0049-4CE3-987D-72AFF207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65C3-90F3-49EF-9FF7-E4C14678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2616-1453-418B-9CB4-C16F4327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8B0D-2192-4018-9FB4-173F73DD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F4F-5538-45B5-BAF6-7128E7B2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0E0-E0B2-4BAD-859E-CA56562D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3C6-5BAA-465E-A7B8-D0DBFB6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1F2-7DF9-43D1-B3D4-9BDECAF5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912-652E-4C9E-B9DF-4270EFC6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0F6-99D0-4205-832B-5A9F456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CF7-9F23-4A99-A257-751091B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9E83-0188-4E6B-B651-5175CD55B11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4CBF-3729-47B9-95E7-43767343FD3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cabular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echnology Paired with Instructional Strategies to Increase Academic Language U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ra Kiera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linda Grim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 Students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ocabul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creased engagement = increased comprehension and reten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e 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ear it…model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se 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 writ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 speaking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&amp; Academic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574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lecting the wor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language of direc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ords with multiple meaning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tent-specific languag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-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57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uld range from Elmo and projection syste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 SMART or Promethean Boar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 a set of devices (if not enough devices for 1:1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 1:1 de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ptop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Pad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ble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ing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dle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ord Clou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ordsift…much more than just a word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isual Thesaurus (app and web $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exipedia (web-free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mantic webbing, semantic gradi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kitch, comic strip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 and 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arage Ba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wsca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dca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ublishing podca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ractive white boar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ducre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mia Tea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7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Authentic Audience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een Ink magazin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logs…edublogs, blogspot, kidblog, weebl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Word Hippo and Rhyme Zone (web)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Vocabulary Squares, Frayer Mod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kitch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vernot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Graphic organiz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Vocabulary Trading Card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favorite vocabulary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cademic Language Toolkit from Stillwater Schoo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reeRice.Com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aura Kieran, laura.kieran@drake.ed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linda Grimm, mj-grimm@wiu.ed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23:20:51Z</dcterms:created>
  <dc:creator>gc0375402</dc:creator>
  <dc:description/>
  <dc:language>en-US</dc:language>
  <cp:lastModifiedBy>Laura Kieran</cp:lastModifiedBy>
  <dcterms:modified xsi:type="dcterms:W3CDTF">2014-09-28T02:58:46Z</dcterms:modified>
  <cp:revision>67</cp:revision>
  <dc:subject/>
  <dc:title>Historical perspectives in  Special Education:</dc:title>
</cp:coreProperties>
</file>